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362-761D-4432-8970-EE2677AF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3BC-25B0-42B8-AD3E-0468E83D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B6B-4AA4-40DB-B1E6-650BFDE8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01A-B576-4115-AC9F-CC07B466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682-3548-432E-8E1B-C06B7DBE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AAF-0B5C-41E6-B3A6-28C9C867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FEE-47FF-4F9E-9482-0C1FC345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B7A-1982-4944-AF26-17175CA3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158-D1D8-4118-8289-6403F9BD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0F7-A7AD-475C-BDA2-60782E9B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E33-DCB0-4D52-B816-4B36A60C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9C3-2FA6-4EE5-93C2-1AF5560F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D56E-AB27-4355-A0E6-8790FDADFCE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4C1B-FFFE-474A-BE06-5A3518BC96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rse_code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rse_cod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0" y="907920"/>
            <a:ext cx="9144000" cy="2930400"/>
            <a:chOff x="0" y="907920"/>
            <a:chExt cx="9144000" cy="2930400"/>
          </a:xfrm>
        </p:grpSpPr>
        <p:sp>
          <p:nvSpPr>
            <p:cNvPr id="42" name="TextBox 3"/>
            <p:cNvSpPr/>
            <p:nvPr/>
          </p:nvSpPr>
          <p:spPr>
            <a:xfrm>
              <a:off x="0" y="907920"/>
              <a:ext cx="914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00"/>
                  </a:solidFill>
                  <a:latin typeface="Comic Sans MS"/>
                </a:rPr>
                <a:t>Functional Skill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4"/>
            <p:cNvSpPr/>
            <p:nvPr/>
          </p:nvSpPr>
          <p:spPr>
            <a:xfrm>
              <a:off x="0" y="301320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ff00"/>
                  </a:solidFill>
                  <a:latin typeface="Comic Sans MS"/>
                </a:rPr>
                <a:t>Code Breaking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398680" y="2565360"/>
            <a:ext cx="4346640" cy="35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819440" y="549360"/>
            <a:ext cx="5505120" cy="33804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0" y="44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eason why this is a good way to make a code is that there are lots of ways of mixing up the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0" y="191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many ways do you think we could mix up all the let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0" y="270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ver 400, 000, 000, 000, 000, 000, 000, 000, 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0" y="342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 say that number out loud it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our Hundred Sept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6659640" y="4637160"/>
            <a:ext cx="2195280" cy="2220840"/>
          </a:xfrm>
          <a:prstGeom prst="rect">
            <a:avLst/>
          </a:prstGeom>
          <a:ln w="0">
            <a:noFill/>
          </a:ln>
        </p:spPr>
      </p:pic>
      <p:sp>
        <p:nvSpPr>
          <p:cNvPr id="109" name="Rounded Rectangular Callout 10"/>
          <p:cNvSpPr/>
          <p:nvPr/>
        </p:nvSpPr>
        <p:spPr>
          <a:xfrm>
            <a:off x="324000" y="4437000"/>
            <a:ext cx="6011640" cy="2160720"/>
          </a:xfrm>
          <a:prstGeom prst="wedgeRoundRectCallout">
            <a:avLst>
              <a:gd name="adj1" fmla="val 74888"/>
              <a:gd name="adj2" fmla="val -2435"/>
              <a:gd name="adj3" fmla="val 16667"/>
            </a:avLst>
          </a:prstGeom>
          <a:solidFill>
            <a:srgbClr val="5959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b0f0"/>
                </a:solidFill>
                <a:latin typeface="Comic Sans MS"/>
              </a:rPr>
              <a:t>Interesting fact: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If you read that number in Britain before 1974 the correct way to say it would have been </a:t>
            </a: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four hundred quadrillion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. In European countries you would still use the old way, but since 1974 most English speaking countries now use what is called the </a:t>
            </a: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short system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(which was previously referred to as the </a:t>
            </a: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American System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0" y="836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Howev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0"/>
          <p:cNvGrpSpPr/>
          <p:nvPr/>
        </p:nvGrpSpPr>
        <p:grpSpPr>
          <a:xfrm>
            <a:off x="0" y="1773360"/>
            <a:ext cx="9144000" cy="3921120"/>
            <a:chOff x="0" y="1773360"/>
            <a:chExt cx="9144000" cy="3921120"/>
          </a:xfrm>
        </p:grpSpPr>
        <p:sp>
          <p:nvSpPr>
            <p:cNvPr id="113" name="TextBox 11"/>
            <p:cNvSpPr/>
            <p:nvPr/>
          </p:nvSpPr>
          <p:spPr>
            <a:xfrm>
              <a:off x="0" y="4869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thematicians can crack the code using something called </a:t>
              </a:r>
              <a:r>
                <a:rPr b="0" i="1" lang="en-GB" sz="2400" spc="-1" strike="noStrike">
                  <a:solidFill>
                    <a:srgbClr val="ffff00"/>
                  </a:solidFill>
                  <a:latin typeface="Comic Sans MS"/>
                </a:rPr>
                <a:t>frequency analysis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2" descr=""/>
            <p:cNvPicPr/>
            <p:nvPr/>
          </p:nvPicPr>
          <p:blipFill>
            <a:blip r:embed="rId1"/>
            <a:stretch/>
          </p:blipFill>
          <p:spPr>
            <a:xfrm>
              <a:off x="3162600" y="1773360"/>
              <a:ext cx="2818800" cy="2818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0" y="486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does this graph show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0" y="566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could we use this to work out what a coded message say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254320" y="907920"/>
            <a:ext cx="4633920" cy="352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0" y="450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e are going to see if we can work out a coded sheet as a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0" y="537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You are going to be given a sheet of code and will be responsible for counting the number of times you see a specific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518760" y="40464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Task 2 – As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54320" y="907920"/>
            <a:ext cx="4633920" cy="352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0" y="486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e are going to fill in a table using the information from the letters you have just counted and the graph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518760" y="40464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Task 2 – As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254320" y="907920"/>
            <a:ext cx="4633920" cy="352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673280" y="4508640"/>
            <a:ext cx="5797440" cy="218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2254320" y="907920"/>
            <a:ext cx="4633920" cy="35258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518760" y="40464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Task 2 – As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ow lets try to read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990800" y="1762200"/>
            <a:ext cx="5162400" cy="333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0" y="1125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You have a list of tasks to finish you o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241920" y="40464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Task 3 – On your own or i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0" y="1916280"/>
            <a:ext cx="91440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ke an A3 poster of the codes we have been looking at explaining how the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y to crack a harder code sheet that is made up of a combination of mixing up letters and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a short passage and create it in code. (This could be using symbols, mixing letters, or a combination of the tw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des appear for many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0" y="148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y are usually used to hid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3213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verything you send on the internet is encoded so that hackers do not have access to everyone's privat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0" y="234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ne of the biggest places for codes is on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3005280" cy="212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1403280" y="4292640"/>
            <a:ext cx="2737080" cy="215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e are going to look at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ubstitution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0" y="450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se are where letters are changed to make things harder to 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0" y="5589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uring one of Sherlock Holmes’s adventures, he comes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Dancing Men Ciph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2170080" y="1413000"/>
            <a:ext cx="4803840" cy="286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826920" y="519120"/>
            <a:ext cx="7490160" cy="2981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0" y="458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y to work out the following messag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233360" y="3789360"/>
            <a:ext cx="667728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572000" y="126828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ne of the most common codes people know something about is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orse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4176720" cy="21625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216000" y="3429000"/>
            <a:ext cx="7646760" cy="2803680"/>
            <a:chOff x="216000" y="3429000"/>
            <a:chExt cx="7646760" cy="2803680"/>
          </a:xfrm>
        </p:grpSpPr>
        <p:sp>
          <p:nvSpPr>
            <p:cNvPr id="67" name="TextBox 6"/>
            <p:cNvSpPr/>
            <p:nvPr/>
          </p:nvSpPr>
          <p:spPr>
            <a:xfrm>
              <a:off x="216000" y="3429000"/>
              <a:ext cx="435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efore the internet there were phones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8" descr=""/>
            <p:cNvPicPr/>
            <p:nvPr/>
          </p:nvPicPr>
          <p:blipFill>
            <a:blip r:embed="rId2"/>
            <a:stretch/>
          </p:blipFill>
          <p:spPr>
            <a:xfrm>
              <a:off x="5507640" y="3717000"/>
              <a:ext cx="2355120" cy="251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2"/>
          <p:cNvGrpSpPr/>
          <p:nvPr/>
        </p:nvGrpSpPr>
        <p:grpSpPr>
          <a:xfrm>
            <a:off x="179280" y="3645000"/>
            <a:ext cx="7952040" cy="2833560"/>
            <a:chOff x="179280" y="3645000"/>
            <a:chExt cx="7952040" cy="2833560"/>
          </a:xfrm>
        </p:grpSpPr>
        <p:sp>
          <p:nvSpPr>
            <p:cNvPr id="70" name="TextBox 9"/>
            <p:cNvSpPr/>
            <p:nvPr/>
          </p:nvSpPr>
          <p:spPr>
            <a:xfrm>
              <a:off x="179280" y="4509360"/>
              <a:ext cx="439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…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.and before phones there were telegrams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9" descr=""/>
            <p:cNvPicPr/>
            <p:nvPr/>
          </p:nvPicPr>
          <p:blipFill>
            <a:blip r:embed="rId3"/>
            <a:stretch/>
          </p:blipFill>
          <p:spPr>
            <a:xfrm>
              <a:off x="5292360" y="3645000"/>
              <a:ext cx="2838960" cy="28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15"/>
          <p:cNvGrpSpPr/>
          <p:nvPr/>
        </p:nvGrpSpPr>
        <p:grpSpPr>
          <a:xfrm>
            <a:off x="179280" y="3429000"/>
            <a:ext cx="8964720" cy="3240000"/>
            <a:chOff x="179280" y="3429000"/>
            <a:chExt cx="8964720" cy="3240000"/>
          </a:xfrm>
        </p:grpSpPr>
        <p:grpSp>
          <p:nvGrpSpPr>
            <p:cNvPr id="73" name="Group 14"/>
            <p:cNvGrpSpPr/>
            <p:nvPr/>
          </p:nvGrpSpPr>
          <p:grpSpPr>
            <a:xfrm>
              <a:off x="179280" y="3429000"/>
              <a:ext cx="8964720" cy="3240000"/>
              <a:chOff x="179280" y="3429000"/>
              <a:chExt cx="8964720" cy="3240000"/>
            </a:xfrm>
          </p:grpSpPr>
          <p:sp>
            <p:nvSpPr>
              <p:cNvPr id="74" name="TextBox 10"/>
              <p:cNvSpPr/>
              <p:nvPr/>
            </p:nvSpPr>
            <p:spPr>
              <a:xfrm>
                <a:off x="179280" y="5589000"/>
                <a:ext cx="4392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… 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and telegrams were sent using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Comic Sans MS"/>
                  </a:rPr>
                  <a:t>Morse Code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13"/>
              <p:cNvSpPr/>
              <p:nvPr/>
            </p:nvSpPr>
            <p:spPr>
              <a:xfrm>
                <a:off x="4572000" y="3429000"/>
                <a:ext cx="4572000" cy="3240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" name="Picture 11" descr=""/>
            <p:cNvPicPr/>
            <p:nvPr/>
          </p:nvPicPr>
          <p:blipFill>
            <a:blip r:embed="rId4"/>
            <a:stretch/>
          </p:blipFill>
          <p:spPr>
            <a:xfrm>
              <a:off x="5004000" y="3789000"/>
              <a:ext cx="3810240" cy="2371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orse Cod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s very hard to hear and work out without lots of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0" y="177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is made up of </a:t>
            </a:r>
            <a:r>
              <a:rPr b="0" lang="en-GB" sz="2400" spc="-1" strike="noStrike">
                <a:solidFill>
                  <a:srgbClr val="92d050"/>
                </a:solidFill>
                <a:latin typeface="Comic Sans MS"/>
              </a:rPr>
              <a:t>quick clicks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or</a:t>
            </a:r>
            <a:r>
              <a:rPr b="0" lang="en-GB" sz="2400" spc="-1" strike="noStrike">
                <a:solidFill>
                  <a:srgbClr val="92d050"/>
                </a:solidFill>
                <a:latin typeface="Comic Sans MS"/>
              </a:rPr>
              <a:t> dot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95b3d7"/>
                </a:solidFill>
                <a:latin typeface="Comic Sans MS"/>
              </a:rPr>
              <a:t>longer clicks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or</a:t>
            </a:r>
            <a:r>
              <a:rPr b="0" lang="en-GB" sz="2400" spc="-1" strike="noStrike">
                <a:solidFill>
                  <a:srgbClr val="95b3d7"/>
                </a:solidFill>
                <a:latin typeface="Comic Sans MS"/>
              </a:rPr>
              <a:t> dash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c000"/>
                </a:solidFill>
                <a:latin typeface="Comic Sans MS"/>
              </a:rPr>
              <a:t>short breaks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etween</a:t>
            </a:r>
            <a:r>
              <a:rPr b="0" lang="en-GB" sz="2400" spc="-1" strike="noStrike">
                <a:solidFill>
                  <a:srgbClr val="ffc000"/>
                </a:solidFill>
                <a:latin typeface="Comic Sans MS"/>
              </a:rPr>
              <a:t> letter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GB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d99694"/>
                </a:solidFill>
                <a:latin typeface="Comic Sans MS"/>
              </a:rPr>
              <a:t>longer breaks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etween</a:t>
            </a:r>
            <a:r>
              <a:rPr b="0" lang="en-GB" sz="2400" spc="-1" strike="noStrike">
                <a:solidFill>
                  <a:srgbClr val="d99694"/>
                </a:solidFill>
                <a:latin typeface="Comic Sans MS"/>
              </a:rPr>
              <a:t> 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ction Button: Sound 11">
            <a:hlinkClick r:id="rId1"/>
          </p:cNvPr>
          <p:cNvSpPr/>
          <p:nvPr/>
        </p:nvSpPr>
        <p:spPr>
          <a:xfrm>
            <a:off x="3995640" y="4508640"/>
            <a:ext cx="1152720" cy="1081080"/>
          </a:xfrm>
          <a:custGeom>
            <a:avLst/>
            <a:gdLst>
              <a:gd name="textAreaLeft" fmla="*/ 69840 w 1152720"/>
              <a:gd name="textAreaRight" fmla="*/ 1082880 w 115272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23031" h="21600">
                <a:moveTo>
                  <a:pt x="0" y="0"/>
                </a:moveTo>
                <a:lnTo>
                  <a:pt x="23031" y="0"/>
                </a:lnTo>
                <a:lnTo>
                  <a:pt x="23031" y="21600"/>
                </a:lnTo>
                <a:lnTo>
                  <a:pt x="0" y="21600"/>
                </a:lnTo>
                <a:close/>
              </a:path>
              <a:path fill="lightenLess" w="23031" h="21600">
                <a:moveTo>
                  <a:pt x="0" y="0"/>
                </a:moveTo>
                <a:lnTo>
                  <a:pt x="23031" y="0"/>
                </a:lnTo>
                <a:lnTo>
                  <a:pt x="21631" y="1400"/>
                </a:lnTo>
                <a:lnTo>
                  <a:pt x="1400" y="1400"/>
                </a:lnTo>
                <a:close/>
              </a:path>
              <a:path fill="darken" w="23031" h="21600">
                <a:moveTo>
                  <a:pt x="23031" y="0"/>
                </a:moveTo>
                <a:lnTo>
                  <a:pt x="23031" y="21600"/>
                </a:lnTo>
                <a:lnTo>
                  <a:pt x="21631" y="20200"/>
                </a:lnTo>
                <a:lnTo>
                  <a:pt x="21631" y="1400"/>
                </a:lnTo>
                <a:close/>
              </a:path>
              <a:path fill="darkenLess" w="23031" h="21600">
                <a:moveTo>
                  <a:pt x="23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1" y="20200"/>
                </a:lnTo>
                <a:close/>
              </a:path>
              <a:path fill="lighten" w="23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1" h="21600">
                <a:moveTo>
                  <a:pt x="4509" y="8406"/>
                </a:moveTo>
                <a:lnTo>
                  <a:pt x="8939" y="8406"/>
                </a:lnTo>
                <a:lnTo>
                  <a:pt x="13361" y="3794"/>
                </a:lnTo>
                <a:lnTo>
                  <a:pt x="13361" y="17806"/>
                </a:lnTo>
                <a:lnTo>
                  <a:pt x="8939" y="13194"/>
                </a:lnTo>
                <a:lnTo>
                  <a:pt x="4509" y="13194"/>
                </a:lnTo>
                <a:close/>
              </a:path>
              <a:path fill="darken" w="23031" h="21600">
                <a:moveTo>
                  <a:pt x="15014" y="10800"/>
                </a:moveTo>
                <a:lnTo>
                  <a:pt x="18522" y="10800"/>
                </a:lnTo>
              </a:path>
              <a:path fill="darken" w="23031" h="21600">
                <a:moveTo>
                  <a:pt x="15014" y="8406"/>
                </a:moveTo>
                <a:lnTo>
                  <a:pt x="18522" y="5639"/>
                </a:lnTo>
              </a:path>
              <a:path fill="darken" w="23031" h="21600">
                <a:moveTo>
                  <a:pt x="15014" y="13194"/>
                </a:moveTo>
                <a:lnTo>
                  <a:pt x="18522" y="15961"/>
                </a:lnTo>
              </a:path>
            </a:pathLst>
          </a:cu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0" y="3198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sten to the sound of a short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orse Cod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essage. Then listen again to try and keep up with dots, dashes and sp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is what you should have g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0" y="177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– –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– – –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· – ·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· · ·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·      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– · – ·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– – –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– · ·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ction Button: Sound 11">
            <a:hlinkClick r:id="rId1"/>
          </p:cNvPr>
          <p:cNvSpPr/>
          <p:nvPr/>
        </p:nvSpPr>
        <p:spPr>
          <a:xfrm>
            <a:off x="3995640" y="4508640"/>
            <a:ext cx="1152720" cy="1081080"/>
          </a:xfrm>
          <a:custGeom>
            <a:avLst/>
            <a:gdLst>
              <a:gd name="textAreaLeft" fmla="*/ 69840 w 1152720"/>
              <a:gd name="textAreaRight" fmla="*/ 1082880 w 115272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23031" h="21600">
                <a:moveTo>
                  <a:pt x="0" y="0"/>
                </a:moveTo>
                <a:lnTo>
                  <a:pt x="23031" y="0"/>
                </a:lnTo>
                <a:lnTo>
                  <a:pt x="23031" y="21600"/>
                </a:lnTo>
                <a:lnTo>
                  <a:pt x="0" y="21600"/>
                </a:lnTo>
                <a:close/>
              </a:path>
              <a:path fill="lightenLess" w="23031" h="21600">
                <a:moveTo>
                  <a:pt x="0" y="0"/>
                </a:moveTo>
                <a:lnTo>
                  <a:pt x="23031" y="0"/>
                </a:lnTo>
                <a:lnTo>
                  <a:pt x="21631" y="1400"/>
                </a:lnTo>
                <a:lnTo>
                  <a:pt x="1400" y="1400"/>
                </a:lnTo>
                <a:close/>
              </a:path>
              <a:path fill="darken" w="23031" h="21600">
                <a:moveTo>
                  <a:pt x="23031" y="0"/>
                </a:moveTo>
                <a:lnTo>
                  <a:pt x="23031" y="21600"/>
                </a:lnTo>
                <a:lnTo>
                  <a:pt x="21631" y="20200"/>
                </a:lnTo>
                <a:lnTo>
                  <a:pt x="21631" y="1400"/>
                </a:lnTo>
                <a:close/>
              </a:path>
              <a:path fill="darkenLess" w="23031" h="21600">
                <a:moveTo>
                  <a:pt x="23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1" y="20200"/>
                </a:lnTo>
                <a:close/>
              </a:path>
              <a:path fill="lighten" w="23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1" h="21600">
                <a:moveTo>
                  <a:pt x="4509" y="8406"/>
                </a:moveTo>
                <a:lnTo>
                  <a:pt x="8939" y="8406"/>
                </a:lnTo>
                <a:lnTo>
                  <a:pt x="13361" y="3794"/>
                </a:lnTo>
                <a:lnTo>
                  <a:pt x="13361" y="17806"/>
                </a:lnTo>
                <a:lnTo>
                  <a:pt x="8939" y="13194"/>
                </a:lnTo>
                <a:lnTo>
                  <a:pt x="4509" y="13194"/>
                </a:lnTo>
                <a:close/>
              </a:path>
              <a:path fill="darken" w="23031" h="21600">
                <a:moveTo>
                  <a:pt x="15014" y="10800"/>
                </a:moveTo>
                <a:lnTo>
                  <a:pt x="18522" y="10800"/>
                </a:lnTo>
              </a:path>
              <a:path fill="darken" w="23031" h="21600">
                <a:moveTo>
                  <a:pt x="15014" y="8406"/>
                </a:moveTo>
                <a:lnTo>
                  <a:pt x="18522" y="5639"/>
                </a:lnTo>
              </a:path>
              <a:path fill="darken" w="23031" h="21600">
                <a:moveTo>
                  <a:pt x="15014" y="13194"/>
                </a:moveTo>
                <a:lnTo>
                  <a:pt x="18522" y="15961"/>
                </a:lnTo>
              </a:path>
            </a:pathLst>
          </a:cu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0" y="3198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sten to the sound again and see if you can follow a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0" y="105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You are going to be give a sheet with these codes on to decipher for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24000" y="335772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y each piece of coding the cipher key is also inclu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859280" y="2133720"/>
            <a:ext cx="3421080" cy="42894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6"/>
          <p:cNvGrpSpPr/>
          <p:nvPr/>
        </p:nvGrpSpPr>
        <p:grpSpPr>
          <a:xfrm>
            <a:off x="3708000" y="2996640"/>
            <a:ext cx="1656000" cy="2088000"/>
            <a:chOff x="3708000" y="2996640"/>
            <a:chExt cx="1656000" cy="2088000"/>
          </a:xfrm>
        </p:grpSpPr>
        <p:cxnSp>
          <p:nvCxnSpPr>
            <p:cNvPr id="92" name="Straight Arrow Connector 11"/>
            <p:cNvCxnSpPr>
              <a:stCxn id="89" idx="3"/>
            </p:cNvCxnSpPr>
            <p:nvPr/>
          </p:nvCxnSpPr>
          <p:spPr>
            <a:xfrm flipV="1">
              <a:off x="3708360" y="2996640"/>
              <a:ext cx="1224720" cy="1176840"/>
            </a:xfrm>
            <a:prstGeom prst="straightConnector1">
              <a:avLst/>
            </a:prstGeom>
            <a:ln w="38160">
              <a:solidFill>
                <a:srgbClr val="a6a6a6"/>
              </a:solidFill>
              <a:miter/>
              <a:tailEnd len="med" type="arrow" w="med"/>
            </a:ln>
          </p:spPr>
        </p:cxnSp>
        <p:cxnSp>
          <p:nvCxnSpPr>
            <p:cNvPr id="93" name="Straight Arrow Connector 13"/>
            <p:cNvCxnSpPr>
              <a:stCxn id="89" idx="3"/>
            </p:cNvCxnSpPr>
            <p:nvPr/>
          </p:nvCxnSpPr>
          <p:spPr>
            <a:xfrm flipV="1">
              <a:off x="3708360" y="3860280"/>
              <a:ext cx="1296000" cy="313200"/>
            </a:xfrm>
            <a:prstGeom prst="straightConnector1">
              <a:avLst/>
            </a:prstGeom>
            <a:ln w="38160">
              <a:solidFill>
                <a:srgbClr val="a6a6a6"/>
              </a:solidFill>
              <a:miter/>
              <a:tailEnd len="med" type="arrow" w="med"/>
            </a:ln>
          </p:spPr>
        </p:cxnSp>
        <p:cxnSp>
          <p:nvCxnSpPr>
            <p:cNvPr id="94" name="Straight Arrow Connector 15"/>
            <p:cNvCxnSpPr>
              <a:stCxn id="89" idx="3"/>
            </p:cNvCxnSpPr>
            <p:nvPr/>
          </p:nvCxnSpPr>
          <p:spPr>
            <a:xfrm>
              <a:off x="3708000" y="4173120"/>
              <a:ext cx="1656360" cy="911880"/>
            </a:xfrm>
            <a:prstGeom prst="straightConnector1">
              <a:avLst/>
            </a:prstGeom>
            <a:ln w="38160">
              <a:solidFill>
                <a:srgbClr val="a6a6a6"/>
              </a:solidFill>
              <a:miter/>
              <a:tailEnd len="med" type="arrow" w="med"/>
            </a:ln>
          </p:spPr>
        </p:cxnSp>
      </p:grpSp>
      <p:sp>
        <p:nvSpPr>
          <p:cNvPr id="95" name="TextBox 17"/>
          <p:cNvSpPr/>
          <p:nvPr/>
        </p:nvSpPr>
        <p:spPr>
          <a:xfrm>
            <a:off x="237240" y="47628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Task 1 – On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Comic Sans MS"/>
              </a:rPr>
              <a:t>LO: Use logic and frequency analysis to read and write i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68360" y="836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other way to make a cipher code is to mix up the letters instead of using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0" y="270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or example suppose I change the letters around s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0" y="3500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ecome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ecomes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ecomes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ecomes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0" y="530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n the word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HELLO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ecom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Comic Sans MS"/>
              </a:rPr>
              <a:t>XL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2662200" cy="194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6:51:54Z</dcterms:created>
  <dc:creator>Hoskin</dc:creator>
  <dc:description/>
  <dc:language>en-US</dc:language>
  <cp:lastModifiedBy>Jean Gray</cp:lastModifiedBy>
  <dcterms:modified xsi:type="dcterms:W3CDTF">2012-08-28T12:24:12Z</dcterms:modified>
  <cp:revision>52</cp:revision>
  <dc:subject/>
  <dc:title>Slide 1</dc:title>
</cp:coreProperties>
</file>